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33ED-BD74-49E0-ABF6-50ECDFD91D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242F-2FDF-4472-931D-57AB0EE5D0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4098"/>
          <p:cNvSpPr/>
          <p:nvPr/>
        </p:nvSpPr>
        <p:spPr>
          <a:xfrm>
            <a:off x="0" y="1125360"/>
            <a:ext cx="9118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粗倩简体"/>
              </a:rPr>
              <a:t>第四单元　生物圈中的人</a:t>
            </a:r>
            <a:endParaRPr b="0" lang="en-US" sz="4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标宋简体"/>
              </a:rPr>
              <a:t>第七章　人类活动对生物圈的影响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Arial"/>
                <a:ea typeface="方正大标宋简体"/>
              </a:rPr>
              <a:t>第三节　拟定保护生态环境的计划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文本框 3074"/>
          <p:cNvSpPr/>
          <p:nvPr/>
        </p:nvSpPr>
        <p:spPr>
          <a:xfrm>
            <a:off x="184320" y="233280"/>
            <a:ext cx="68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生物学  七年级  下册  配人教版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3132000" y="4541760"/>
            <a:ext cx="4143600" cy="2343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71280" y="44280"/>
            <a:ext cx="90727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爱护环境，保护地球。下列做法与这一理念相符的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使用一次性筷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燃放烟花爆竹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使用环保购物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购买精包装商品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能力提升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.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温室效应是指由于全球二氧化碳等气体的排放量不断增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导致地球平均气温不断上升的现象。下图是某兴趣小组设计的模拟生物圈“温室效应”的实验装置。请回答下列问题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8004240" y="67788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71280" y="372960"/>
            <a:ext cx="90727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一组对照实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其中起对照作用的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图中生态瓶内有河水、水草、小鱼、泥沙等成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因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生态瓶实质上就是一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作为模拟“温室效应”的一组对照实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个生态瓶中各种成分的量、大小等应尽量保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实验一段时间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内的温度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内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则可证明“温室效应”会导致气温上升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为了减缓“温室效应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类应倡导低碳生活。作为一个中学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从自身做起。请写出你符合低碳生活理念的一项日常行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____________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8069040" y="4618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221440" y="15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态系统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105800" y="263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致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7740360" y="321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198400" y="54309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随手关灯、节约用水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近几年，“低能耗、低污染、低排放”的低碳经济受到世界各国的高度重视，低碳理念也逐渐深入人心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上海世博会就提出了“低碳世博”的口号，受到世界瞩目；我市近几年也先后出台了一系列政策文件，力推“低碳经济’’和“低碳生活”。请根据上述材料回答下列问题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60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69228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之所以提倡“低碳”理念，主要是因为人类大量使用矿物燃料，排出大量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温室气体到大气中，打破自然界的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氧平衡，造成全球逐渐变暖，导致自然灾害频繁发生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右图①表示大气中的碳通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用进入植物体内，该生理作用在植物细胞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完成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右图②表示大气中的碳通过植物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用返还大气中。该生理作用主要是在植物细胞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完成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500720" y="1325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氧化碳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654160" y="2995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光合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365800" y="3557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叶绿体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6373080" y="40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呼吸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851520" y="465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线粒体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479520"/>
            <a:ext cx="9144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右图中微生物把动植物尸体分解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又被绿色植物利用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提倡“低碳生活”，在日常生活中尽量减少能量的消耗，从而减少二氧化碳排放量。你能为“低碳生活”做些什么？写一条和大家分享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948720" y="692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氧化碳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1236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197080" y="141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机盐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7520" y="4221000"/>
            <a:ext cx="90964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节约用电（如随手关灯、关电脑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、骑自行车、乘公交车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4107"/>
          <p:cNvGrpSpPr/>
          <p:nvPr/>
        </p:nvGrpSpPr>
        <p:grpSpPr>
          <a:xfrm>
            <a:off x="179280" y="476280"/>
            <a:ext cx="2016000" cy="581400"/>
            <a:chOff x="179280" y="476280"/>
            <a:chExt cx="2016000" cy="581400"/>
          </a:xfrm>
        </p:grpSpPr>
        <p:sp>
          <p:nvSpPr>
            <p:cNvPr id="46" name="矩形 4105"/>
            <p:cNvSpPr/>
            <p:nvPr/>
          </p:nvSpPr>
          <p:spPr>
            <a:xfrm>
              <a:off x="179280" y="547560"/>
              <a:ext cx="2016000" cy="50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7" name="文本框 4106"/>
            <p:cNvSpPr/>
            <p:nvPr/>
          </p:nvSpPr>
          <p:spPr>
            <a:xfrm>
              <a:off x="576720" y="476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48" name="Rectangle 7"/>
          <p:cNvSpPr/>
          <p:nvPr/>
        </p:nvSpPr>
        <p:spPr>
          <a:xfrm>
            <a:off x="108000" y="1433520"/>
            <a:ext cx="8856720" cy="3292560"/>
          </a:xfrm>
          <a:prstGeom prst="rect">
            <a:avLst/>
          </a:prstGeom>
          <a:noFill/>
          <a:ln cap="rnd" w="936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尝试完成对当地生态环境现状的调查和有关的分析讨论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拟定保护当地生态环境的行动计划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认同作为地球的公民，在保护生态环境方面应尽自己的责任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6166"/>
          <p:cNvGrpSpPr/>
          <p:nvPr/>
        </p:nvGrpSpPr>
        <p:grpSpPr>
          <a:xfrm>
            <a:off x="157320" y="282600"/>
            <a:ext cx="2016000" cy="581400"/>
            <a:chOff x="157320" y="282600"/>
            <a:chExt cx="2016000" cy="581400"/>
          </a:xfrm>
        </p:grpSpPr>
        <p:sp>
          <p:nvSpPr>
            <p:cNvPr id="50" name="矩形 6167"/>
            <p:cNvSpPr/>
            <p:nvPr/>
          </p:nvSpPr>
          <p:spPr>
            <a:xfrm>
              <a:off x="157320" y="353880"/>
              <a:ext cx="2016000" cy="50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1" name="文本框 6168"/>
            <p:cNvSpPr/>
            <p:nvPr/>
          </p:nvSpPr>
          <p:spPr>
            <a:xfrm>
              <a:off x="555480" y="2826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课前预习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52" name="Rectangle 74"/>
          <p:cNvSpPr/>
          <p:nvPr/>
        </p:nvSpPr>
        <p:spPr>
          <a:xfrm>
            <a:off x="71280" y="1341360"/>
            <a:ext cx="9072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拟定保护生态环境的计划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目的要求：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通过调查当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分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讨论拟定保护当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计划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认同每位公民在保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方面都有自己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材料和用具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Rectangle 75"/>
          <p:cNvSpPr/>
          <p:nvPr/>
        </p:nvSpPr>
        <p:spPr>
          <a:xfrm>
            <a:off x="4213080" y="2492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态环境现状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Rectangle 76"/>
          <p:cNvSpPr/>
          <p:nvPr/>
        </p:nvSpPr>
        <p:spPr>
          <a:xfrm>
            <a:off x="900360" y="306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调查结果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Rectangle 77"/>
          <p:cNvSpPr/>
          <p:nvPr/>
        </p:nvSpPr>
        <p:spPr>
          <a:xfrm>
            <a:off x="6589800" y="306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态环境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Rectangle 78"/>
          <p:cNvSpPr/>
          <p:nvPr/>
        </p:nvSpPr>
        <p:spPr>
          <a:xfrm>
            <a:off x="5148360" y="4133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态环境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Rectangle 79"/>
          <p:cNvSpPr/>
          <p:nvPr/>
        </p:nvSpPr>
        <p:spPr>
          <a:xfrm>
            <a:off x="1261440" y="47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责任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Rectangle 80"/>
          <p:cNvSpPr/>
          <p:nvPr/>
        </p:nvSpPr>
        <p:spPr>
          <a:xfrm>
            <a:off x="3033720" y="5286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笔记本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Rectangle 81"/>
          <p:cNvSpPr/>
          <p:nvPr/>
        </p:nvSpPr>
        <p:spPr>
          <a:xfrm>
            <a:off x="4860720" y="522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笔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6166"/>
          <p:cNvGrpSpPr/>
          <p:nvPr/>
        </p:nvGrpSpPr>
        <p:grpSpPr>
          <a:xfrm>
            <a:off x="157320" y="282600"/>
            <a:ext cx="2016000" cy="581400"/>
            <a:chOff x="157320" y="282600"/>
            <a:chExt cx="2016000" cy="581400"/>
          </a:xfrm>
        </p:grpSpPr>
        <p:sp>
          <p:nvSpPr>
            <p:cNvPr id="61" name="矩形 6167"/>
            <p:cNvSpPr/>
            <p:nvPr/>
          </p:nvSpPr>
          <p:spPr>
            <a:xfrm>
              <a:off x="157320" y="353880"/>
              <a:ext cx="2016000" cy="50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2" name="文本框 6168"/>
            <p:cNvSpPr/>
            <p:nvPr/>
          </p:nvSpPr>
          <p:spPr>
            <a:xfrm>
              <a:off x="555480" y="2826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课前预习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63" name="Rectangle 60"/>
          <p:cNvSpPr/>
          <p:nvPr/>
        </p:nvSpPr>
        <p:spPr>
          <a:xfrm>
            <a:off x="71280" y="1504800"/>
            <a:ext cx="9072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方法步骤：①分组进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收集各种相关资料；②针对一个具体存在的问题，通过进一步收集资料，写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③结合实际情况，分析出现问题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写出保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计划；④通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完善并汇总全班的报告和计划，并向当地有关部门汇报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Rectangle 61"/>
          <p:cNvSpPr/>
          <p:nvPr/>
        </p:nvSpPr>
        <p:spPr>
          <a:xfrm>
            <a:off x="450144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调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Rectangle 62"/>
          <p:cNvSpPr/>
          <p:nvPr/>
        </p:nvSpPr>
        <p:spPr>
          <a:xfrm>
            <a:off x="97344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调查报告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Rectangle 63"/>
          <p:cNvSpPr/>
          <p:nvPr/>
        </p:nvSpPr>
        <p:spPr>
          <a:xfrm>
            <a:off x="540720" y="35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因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Rectangle 64"/>
          <p:cNvSpPr/>
          <p:nvPr/>
        </p:nvSpPr>
        <p:spPr>
          <a:xfrm>
            <a:off x="3924720" y="35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态环境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Rectangle 65"/>
          <p:cNvSpPr/>
          <p:nvPr/>
        </p:nvSpPr>
        <p:spPr>
          <a:xfrm>
            <a:off x="54072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汇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Rectangle 66"/>
          <p:cNvSpPr/>
          <p:nvPr/>
        </p:nvSpPr>
        <p:spPr>
          <a:xfrm>
            <a:off x="2341080" y="414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交流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10244"/>
          <p:cNvGrpSpPr/>
          <p:nvPr/>
        </p:nvGrpSpPr>
        <p:grpSpPr>
          <a:xfrm>
            <a:off x="179280" y="260280"/>
            <a:ext cx="2016000" cy="581400"/>
            <a:chOff x="179280" y="260280"/>
            <a:chExt cx="2016000" cy="581400"/>
          </a:xfrm>
        </p:grpSpPr>
        <p:sp>
          <p:nvSpPr>
            <p:cNvPr id="71" name="矩形 10245"/>
            <p:cNvSpPr/>
            <p:nvPr/>
          </p:nvSpPr>
          <p:spPr>
            <a:xfrm>
              <a:off x="179280" y="331920"/>
              <a:ext cx="201600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72" name="文本框 10246"/>
            <p:cNvSpPr/>
            <p:nvPr/>
          </p:nvSpPr>
          <p:spPr>
            <a:xfrm>
              <a:off x="577440" y="260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同步训练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73" name="Rectangle 9"/>
          <p:cNvSpPr/>
          <p:nvPr/>
        </p:nvSpPr>
        <p:spPr>
          <a:xfrm>
            <a:off x="71280" y="1144440"/>
            <a:ext cx="90727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夯实基础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拟定保护生态环境的计划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活动中，有利于保护生态环境的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力推广私家车出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旅游后携带新鲜水果回国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退耕还草还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④电池直接扔到垃圾桶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垃圾分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⑥使用再生纸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纸质购物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 ①④⑤⑦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 ①③④⑤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 ③⑤⑥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 ②④⑥⑦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Rectangle 23"/>
          <p:cNvSpPr/>
          <p:nvPr/>
        </p:nvSpPr>
        <p:spPr>
          <a:xfrm>
            <a:off x="8005680" y="23493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71280" y="320760"/>
            <a:ext cx="90727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随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低碳经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新名词的出现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低碳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运而生，并迅速壮大。下列哪些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低碳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生活习惯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  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  ①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  ②③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  ①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  ①②③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人类活动，可以保护生物圈的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回收废旧电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伐木毁林开辟农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焚烧农作物的秸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围海造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0" y="226548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986240" y="15303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995960" y="49150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面的措施中，哪一种对保持生态环境最有利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把大片沼泽地开垦为农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菜地中喷洒农药以杀死菜青虫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田间施放性引诱剂，干扰雌雄害虫之间的通讯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把工业废水排入发生“赤潮”的海域，让那些有毒藻类死亡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类只有一个地球！”为了保护人类赖以生存的环境，下列做法中不恰当的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回收利用废旧金属，变废为宝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发新能源，逐步减少化石燃料的使用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为减少“白色污染”，集中收集并焚烧废弃塑料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农业上提倡使用农家肥，合理使用化肥和农药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8437680" y="1015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934400" y="39895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8964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国家和太湖流域各级政府对太湖采取了控源截污、打捞蓝藻、生态调水、生态清淤等一系列措施的主要目的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展生态旅游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改善生态环境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发展渔业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增加财政收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哪项不利于环境保护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力植树造林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回收废电池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使用一次性筷子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使用电子贺卡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7927560" y="11811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7934400" y="39895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71280"/>
            <a:ext cx="914400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每年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是“世界环境日”，环保是我国的一项基本国策。下列做法中不利于环境保护的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植树造林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宣传环境保护的法规法纪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量使用农药、化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对工业废水、废气进行处理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的耗用量称为“碳足迹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般情况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排放的二氧化碳越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足迹就越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足迹的计算包括一切用于电力、建设、运输等方面的能源以及我们所使用的消耗品。以下做法可以减少“碳足迹”的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减少一次性筷子的使用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量使用煤、石油等燃料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生活垃圾焚烧处理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以私家车出行代替公共交通工具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934400" y="5335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924680" y="42926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03:55:43Z</dcterms:created>
  <dc:creator>Administrator</dc:creator>
  <dc:description/>
  <cp:keywords/>
  <dc:language>en-US</dc:language>
  <cp:lastModifiedBy>Administrator</cp:lastModifiedBy>
  <dcterms:modified xsi:type="dcterms:W3CDTF">2018-01-24T08:14:32Z</dcterms:modified>
  <cp:revision>1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38</vt:lpwstr>
  </property>
</Properties>
</file>